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621-3DD4-41EF-863A-3D2E953D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D29-4281-4922-A6BD-73DE08B8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9B5-F228-442F-9B11-7A36935F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4AB-3676-4916-98EB-70D6DEF0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6F9-0241-4C3A-8B0F-FFD81984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7DD-24C1-455B-AAE0-1F322F47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CDA-C3A8-42D0-B83D-B21A6D3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CDC-355D-4BD6-9F71-F5EDF0EB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03A-63E3-43D5-B6D8-7E791467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CDD-32F2-42F0-9100-B2FF99A1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B59-B856-4072-BCD7-E925C983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7E4-DE0A-466D-9198-B94EDA7A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072F-334A-4579-A951-7D952F4A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titlewave.com/cover?FLR=17988S3&amp;SID=3833bd3ee416a56ca593ea60b346d3ff&amp;dir=next&amp;seq=1&amp;type=cover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ery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very year to the Author for the best book published in the previou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195732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34320" y="2895480"/>
            <a:ext cx="1930320" cy="289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over image for Bud, not Buddy"/>
          <p:cNvPicPr/>
          <p:nvPr/>
        </p:nvPicPr>
        <p:blipFill>
          <a:blip r:embed="rId3"/>
          <a:stretch/>
        </p:blipFill>
        <p:spPr>
          <a:xfrm>
            <a:off x="1523880" y="3657600"/>
            <a:ext cx="1560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tta Scott King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every year to an African American Author and Illust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Mrs. Coretta Scott King for her work for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over image for Bud, not Buddy"/>
          <p:cNvPicPr/>
          <p:nvPr/>
        </p:nvPicPr>
        <p:blipFill>
          <a:blip r:embed="rId1"/>
          <a:stretch/>
        </p:blipFill>
        <p:spPr>
          <a:xfrm>
            <a:off x="6039000" y="1447920"/>
            <a:ext cx="16081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over image for Goin' someplace special"/>
          <p:cNvPicPr/>
          <p:nvPr/>
        </p:nvPicPr>
        <p:blipFill>
          <a:blip r:embed="rId2"/>
          <a:stretch/>
        </p:blipFill>
        <p:spPr>
          <a:xfrm>
            <a:off x="5943600" y="4114800"/>
            <a:ext cx="1779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bert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year to the Authors and illustrators for the best nonfiction book published in the previou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over image for The Tarantula scientist (Scien..."/>
          <p:cNvPicPr/>
          <p:nvPr/>
        </p:nvPicPr>
        <p:blipFill>
          <a:blip r:embed="rId1"/>
          <a:stretch/>
        </p:blipFill>
        <p:spPr>
          <a:xfrm>
            <a:off x="5715000" y="1905120"/>
            <a:ext cx="267804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55480" cy="145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Cover image for An American plague : the true ..."/>
          <p:cNvPicPr/>
          <p:nvPr/>
        </p:nvPicPr>
        <p:blipFill>
          <a:blip r:embed="rId3"/>
          <a:stretch/>
        </p:blipFill>
        <p:spPr>
          <a:xfrm>
            <a:off x="6324480" y="426708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 Seuss Geisel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year to the Authors and illustrators for the best  beginning reader books published in the US during the preceding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Cover image for Hi! Fly Guy"/>
          <p:cNvPicPr/>
          <p:nvPr/>
        </p:nvPicPr>
        <p:blipFill>
          <a:blip r:embed="rId1"/>
          <a:stretch/>
        </p:blipFill>
        <p:spPr>
          <a:xfrm>
            <a:off x="7315200" y="4038480"/>
            <a:ext cx="1454040" cy="218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over image for Mercy Watson goes for a ride"/>
          <p:cNvPicPr/>
          <p:nvPr/>
        </p:nvPicPr>
        <p:blipFill>
          <a:blip r:embed="rId2"/>
          <a:stretch/>
        </p:blipFill>
        <p:spPr>
          <a:xfrm>
            <a:off x="6934320" y="1905120"/>
            <a:ext cx="1492200" cy="190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over image for Move over, R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4343400"/>
            <a:ext cx="171792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477120" y="228600"/>
            <a:ext cx="13618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ura Ingalls Wilder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1562040" cy="1478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s an Author or Illustrators whose books have been around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over image for George and Martha"/>
          <p:cNvPicPr/>
          <p:nvPr/>
        </p:nvPicPr>
        <p:blipFill>
          <a:blip r:embed="rId2"/>
          <a:stretch/>
        </p:blipFill>
        <p:spPr>
          <a:xfrm>
            <a:off x="1295280" y="3429000"/>
            <a:ext cx="2246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decott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ut every year to an Illustrators for the best picture books published in the previou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1220760" cy="218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1698480" cy="2187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95280" y="3276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6:35:31Z</dcterms:created>
  <dc:creator>SCSD</dc:creator>
  <dc:description/>
  <dc:language>en-US</dc:language>
  <cp:lastModifiedBy>jglidden</cp:lastModifiedBy>
  <dcterms:modified xsi:type="dcterms:W3CDTF">2010-02-16T13:06:38Z</dcterms:modified>
  <cp:revision>7</cp:revision>
  <dc:subject/>
  <dc:title>Slide 1</dc:title>
</cp:coreProperties>
</file>